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743-15F7-4902-8338-89C0A072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147-3C67-458C-8179-1E5F35C8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DD-CFB4-4DD8-8367-0B4FC1FC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E64-9CCA-420D-9327-02E6825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A3F-B78B-4D48-AE81-E478637D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C7E-CC0C-4362-9E9E-3142469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90D-EEBB-45F4-991F-CF52475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63C-B9E9-457A-A28E-51F36F5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D3F-73E0-4B9C-84AC-EF197C51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7E0-8D37-4E89-9521-7E40671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D6F-F50B-4445-9F35-3D2D41D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CA2-0A12-4F5D-A30A-421E320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288-5B78-4CA8-980E-3194658B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dailymail.co.uk/i/pix/2008/06/14/article-1026379-000316F100000258-420_468x382.jpg&amp;imgrefurl=http://www.dailymail.co.uk/news/article-1026379/The-books-read-children.html&amp;usg=__n556uRx-xnoPTjZDudc98qjVOQc=&amp;h=382&amp;w=468&amp;sz=21&amp;hl=en&amp;start=5&amp;um=1&amp;tbnid=nt11chJJFKXsQM:&amp;tbnh=104&amp;tbnw=128&amp;prev=/images%3Fq%3Dboy%2Breads%2Ba%2Bbook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reethumbs.dreamstime.com/81/big/free_817909.jpg&amp;imgrefurl=http://www.dreamstime.com/young-girl-read-the-book-on-white-imagefree817909&amp;usg=__W0LI6a-y7CpLq9MWRQ9S0la6FgQ=&amp;h=350&amp;w=233&amp;sz=33&amp;hl=en&amp;start=26&amp;um=1&amp;tbnid=VfaOKXm75yZEQM:&amp;tbnh=120&amp;tbnw=80&amp;prev=/images%3Fq%3Dgirl%2B%2Breads%2Bbook%26start%3D20%26ndsp%3D2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ustavus.edu/news/headlines/photos/large/3171_b.jpg&amp;imgrefurl=http://gustavus.edu/news/3171&amp;usg=__nL6wnAabeNwFa3W0vlWbVdv89XE=&amp;h=460&amp;w=600&amp;sz=107&amp;hl=en&amp;start=12&amp;um=1&amp;tbnid=51HxwgNVD38buM:&amp;tbnh=104&amp;tbnw=135&amp;prev=/images%3Fq%3Dstudents%2Bread%2Bbooks%26um%3D1%26hl%3Den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cusa.org/fairfood/images/letterwriter.jpg&amp;imgrefurl=http://www.pcusa.org/fairfood/news-photo.htm&amp;usg=__d7Yep7jUosPh2odqmsmNnK4vBjM=&amp;h=165&amp;w=200&amp;sz=8&amp;hl=en&amp;start=15&amp;um=1&amp;tbnid=hNr8Z2gJxlTX4M:&amp;tbnh=86&amp;tbnw=104&amp;prev=/images%3Fq%3Dboy%2Bwrites%2Bletter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1.comstock.com/Imagewarehouse/TS/SITECS/NLWMCompingVersions/C0030/C0030354/C0030354.jpg&amp;imgrefurl=http://www.comstock.com/web/search/loupe.asp%3FImage%3DC0030354.jpg%26Type%3DTS&amp;usg=__4oRSeuSxOUwqHJHXfBvESQvK_hs=&amp;h=252&amp;w=324&amp;sz=24&amp;hl=en&amp;start=42&amp;um=1&amp;tbnid=dBm1sPPIgRqyaM:&amp;tbnh=92&amp;tbnw=118&amp;prev=/images%3Fq%3D2%2Bboys%2Bwalking%2Bto%2Bclass%26start%3D40%26ndsp%3D20%26um%3D1%26hl%3D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186.imageshack.us/img186/5517/movies2he8.jpg&amp;imgrefurl=http://profile.myspace.com/index.cfm%3Ffuseaction%3Duser.viewprofile%26friendid%3D131169403&amp;usg=__l-k1ZHvPqCSU59VHZIM8_m4_L38=&amp;h=595&amp;w=403&amp;sz=213&amp;hl=en&amp;start=39&amp;um=1&amp;tbnid=LWxpcPuXQ7v9MM:&amp;tbnh=135&amp;tbnw=91&amp;prev=/images%3Fq%3Dmovies%26start%3D20%26ndsp%3D2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oncurringopinions.com/archives/images/law-movies1.jpg&amp;imgrefurl=http://www.concurringopinions.com/archives/2006/10/law_movie_canon.html&amp;usg=__LW_nyUlFWK-8IjUScPwxBPMvbxQ=&amp;h=449&amp;w=396&amp;sz=48&amp;hl=en&amp;start=33&amp;um=1&amp;tbnid=TGhum_cCS5yfbM:&amp;tbnh=127&amp;tbnw=112&amp;prev=/images%3Fq%3Dmovies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rldofstock.com/slides/PCH10740.jpg&amp;imgrefurl=http://www.worldofstock.com/closeups/PCH10740.php&amp;usg=__NYRri2U_EVFt4lBphBE9MbK_rBg=&amp;h=500&amp;w=334&amp;sz=48&amp;hl=en&amp;start=15&amp;um=1&amp;tbnid=DreuVtggnYjkSM:&amp;tbnh=130&amp;tbnw=87&amp;prev=/images%3Fq%3Dfather%2Bcomes%2Bhome%26um%3D1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abilitystudies.ca/images/photos/youth%2520employment%2520project/Stephen%2520Ward.JPG&amp;imgrefurl=http://www.disabilitystudies.ca/Documents/Bulletins/old/htm/vol3no3.htm&amp;usg=__vE-7pFKxODh6VShUEmU8Wqp1WD4=&amp;h=280&amp;w=403&amp;sz=38&amp;hl=en&amp;start=11&amp;um=1&amp;tbnid=pvRHCn3CXgbDOM:&amp;tbnh=86&amp;tbnw=124&amp;prev=/images%3Fq%3Dman%2Bworks%2Bon%2Bcomputer%26um%3D1%26hl%3Den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ownheights.info/media/4/20071009-dual-mazal-tov.jpg&amp;imgrefurl=http://www.crownheights.info/index.php%3Famount%3D0%26blogid%3D1%26query%3Dhakofos&amp;usg=__GoOB7RR96lwrWqYZJXP18OqqTvM=&amp;h=342&amp;w=425&amp;sz=22&amp;hl=en&amp;start=5&amp;um=1&amp;tbnid=oQzA2E7P0fT_7M:&amp;tbnh=101&amp;tbnw=126&amp;prev=/images%3Fq%3Dmazal%2Btov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palphot.co.il/files/Products/Greeting_Cards/MazalTov/401-828D.jpg&amp;imgrefurl=http://www.palphot.co.il/%3Fcatid%3D%257BD3E2DC6B-28BC-4B83-84CA-04098E64F27C%257D%26itemid%3D%257B53B5391C-0473-4715-8426-E330A7FF6986%257D&amp;usg=__i1qOz80NV9voaTCpelHQ43PWZ5A=&amp;h=625&amp;w=330&amp;sz=66&amp;hl=en&amp;start=2&amp;um=1&amp;tbnid=TaKdtmO8jdA_eM:&amp;tbnh=136&amp;tbnw=72&amp;prev=/images%3Fq%3Dmazal%2Btov%26um%3D1%26hl%3De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eiritsu-int.com/contents/Shodo%2520girl-thumb.jpg&amp;imgrefurl=http://www.seiritsu-int.com/contents/news/&amp;usg=__yg5UHNZvO-ECvK-Q0Zbsf9smLoc=&amp;h=441&amp;w=480&amp;sz=49&amp;hl=en&amp;start=35&amp;um=1&amp;tbnid=a0zYIQAmVpLk2M:&amp;tbnh=119&amp;tbnw=129&amp;prev=/images%3Fq%3Djapanese%2Bgirl%2Bwalks%2Bto%2Bschool%26start%3D20%26ndsp%3D20%26um%3D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307/1309366237_71e5db8484.jpg%3Fv%3D0&amp;imgrefurl=http://www.flickr.com/photos/charnyfamily/1309366237/&amp;usg=__AS6jiEPAFom8wzXeYBXyUn5r0uA=&amp;h=500&amp;w=333&amp;sz=73&amp;hl=en&amp;start=5&amp;um=1&amp;tbnid=svuRCT0Fvc-iKM:&amp;tbnh=130&amp;tbnw=87&amp;prev=/images%3Fq%3Dkita%2Balef%26ndsp%3D20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.npr.org/images/podcasts/primary/icon_510051.jpg&amp;imgrefurl=http://multimedia.boston.com/hockey/anaheim-ducks.htm&amp;usg=__MKNM0pTsPD3XN7ED0QWNGmCeAd0=&amp;h=300&amp;w=300&amp;sz=54&amp;hl=en&amp;start=2&amp;um=1&amp;tbnid=bLA0UAHsa5ozlM:&amp;tbnh=116&amp;tbnw=116&amp;prev=/images%3Fq%3Dnow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eedtoplate.com/assets/images/milk.jpg&amp;imgrefurl=http://www.seedtoplate.com/the-benefits-of-drinking-organic-milk.html&amp;usg=__Wu2JoiGLy7LC4TqN3ZqoQR34jPM=&amp;h=418&amp;w=300&amp;sz=12&amp;hl=en&amp;start=5&amp;um=1&amp;tbnid=YszyDp1HDt8CWM:&amp;tbnh=125&amp;tbnw=90&amp;prev=/images%3Fq%3Dmilk%26um%3D1%26hl%3De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mommyzabs.com/wp-content/uploads/2008/02/bigstockphoto_i_love_coffee_23880.jpg&amp;imgrefurl=http://www.mommyzabs.com/category/christianity/&amp;usg=__kw3g48OLnLXN0dEcXY3DZcec6EY=&amp;h=601&amp;w=900&amp;sz=290&amp;hl=en&amp;start=8&amp;um=1&amp;tbnid=vFeBIhGuAFktgM:&amp;tbnh=97&amp;tbnw=146&amp;prev=/images%3Fq%3Dcoffe%2Blate%26um%3D1%26hl%3Den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jeffcornwall.com/welcome.jpg&amp;imgrefurl=http://www.drjeffcornwall.com/2008/07/&amp;usg=__fezNL9IOIzK-c11BzSTzrjtswS8=&amp;h=399&amp;w=509&amp;sz=220&amp;hl=en&amp;start=13&amp;um=1&amp;tbnid=CyKXAHRWfWeUEM:&amp;tbnh=103&amp;tbnw=131&amp;prev=/images%3Fq%3Dwelcome%26um%3D1%26hl%3Den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judaica.com/product_aj/images/medium/1828.jpg&amp;imgrefurl=http://www.alljudaica.com/detail.asp%3Fbid%3D1255%26catid%3D20000%26mii%3Dy&amp;usg=__lVxsT9jJGsn8ydOFTKjF4n6vVgc=&amp;h=124&amp;w=175&amp;sz=12&amp;hl=en&amp;start=4&amp;um=1&amp;tbnid=gWbytDPh8nSzRM:&amp;tbnh=71&amp;tbnw=100&amp;prev=/images%3Fq%3Dbruchim%2Bhabaim%2Bmat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exhibitions.com/yofi.gif&amp;imgrefurl=http://www.israelexhibitions.com/f-mag.htm&amp;usg=__wxAnWnnGrh2K3370zjFLFMEwW48=&amp;h=112&amp;w=152&amp;sz=8&amp;hl=en&amp;start=57&amp;um=1&amp;tbnid=jt9-1XnOjFkEnM:&amp;tbnh=71&amp;tbnw=96&amp;prev=/images%3Fq%3Dyofi%26start%3D40%26ndsp%3D20%26um%3D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spiritindustrytrade.com/images/members/YofiWeblink2.gif&amp;imgrefurl=http://www.spiritindustrytrade.com/membership/&amp;usg=__Fd13Kqu04wtuSXF0AcxFdDdcIx4=&amp;h=140&amp;w=140&amp;sz=6&amp;hl=en&amp;start=5&amp;um=1&amp;tbnid=L5Nf-yunxu-cIM:&amp;tbnh=93&amp;tbnw=93&amp;prev=/images%3Fq%3Dyofi%2Bcosmetics%26um%3D1%26hl%3Den%26sa%3DN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irectrooms.com/israel/img/hotel-picture/hotel-5684-52806.jpg&amp;imgrefurl=http://directrooms.com/israel/hotels/sheraton-moriah-dead-sea-hotel-5684.htm&amp;usg=__brXwT-fwq37KzBWt_UKwsImckHA=&amp;h=242&amp;w=360&amp;sz=22&amp;hl=en&amp;start=4&amp;um=1&amp;tbnid=v0nG_Y3I5c4QsM:&amp;tbnh=81&amp;tbnw=121&amp;prev=/images%3Fq%3Ddead%2Bsea%2Bhotel%26um%3D1%26hl%3Den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ache.daylife.com/imageserve/029O4iUcj99xn/610x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6 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קורא     כותב    הולך   בא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אוהב       בבקשה   יופי   ספר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שם   פה   סרטים  חלב   ברוכים  הבאים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עכשיו     מה שלומך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וכים   הבא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1782720"/>
            <a:ext cx="426708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_    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רוכים 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57722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וד  מע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1704960"/>
            <a:ext cx="4343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 __ __ __ __   ל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באו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52578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אמריק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7920" y="1600200"/>
            <a:ext cx="3187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___  ספר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וראים  /   קוראות /  קורא / קורא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200400"/>
            <a:ext cx="327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ה   _______  ספר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ותבת   /   קוראת /  קור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0512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ים  _ _ _ _ _ _ ספ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וראת  /  קורא  /  קוראים / קור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קור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322360"/>
            <a:ext cx="45720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  __  __ __ __  מכת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969920"/>
            <a:ext cx="3809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__ __ __ __ __ __  ל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לך /  הולכים / הולכת / הולכ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לכ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317680"/>
            <a:ext cx="3429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ו    הולך   על  ה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3476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סרט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28800"/>
            <a:ext cx="2825640" cy="419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2819520"/>
            <a:ext cx="24112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בא    __ __   לבית (הביתה)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אה  / בא  /  באים /  ב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981080"/>
            <a:ext cx="290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__ __ __ __  על  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חש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028960"/>
            <a:ext cx="3200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__ __ __     __ __ __  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971800"/>
            <a:ext cx="2743200" cy="2198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4680" y="1295280"/>
            <a:ext cx="1895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__ __ __ __ __  ביפנית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ותב  /  כותבת / כותבים / כותב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תב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362320"/>
            <a:ext cx="2819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תלמידה  __ __ __ __ __  לבית ספ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הולכ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75248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ה   ועכשיו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43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עם __ __ __  או  בל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חלב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905120"/>
            <a:ext cx="233856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479680"/>
            <a:ext cx="25909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!!!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כים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124080"/>
            <a:ext cx="28954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  באנגל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83000"/>
            <a:ext cx="37339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לדה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הולכ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917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ופ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2795760"/>
            <a:ext cx="2286000" cy="16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48616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__ __ __ __  ליד  ים המלח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ספר /  סרט / מלון / בי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לו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108160"/>
            <a:ext cx="35816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"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שלומך ? 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  ה__ __ !!!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ברוכים הבאים / ברוך השם / מזל ט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ך הש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66688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ום...   " _ _ _ _ _ _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רוכים  הבא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57800" y="1714680"/>
            <a:ext cx="32767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ור  בעברית באולפ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4191120" cy="305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64008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ימ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יולוג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שיעור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High School Students in Biology Class"/>
          <p:cNvPicPr/>
          <p:nvPr/>
        </p:nvPicPr>
        <p:blipFill>
          <a:blip r:embed="rId1"/>
          <a:stretch/>
        </p:blipFill>
        <p:spPr>
          <a:xfrm>
            <a:off x="3657600" y="1936800"/>
            <a:ext cx="37339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לד    וילדה   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הולכ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989000"/>
            <a:ext cx="4724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  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הולכ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3800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ב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עוד  מעט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24080" y="1805040"/>
            <a:ext cx="3886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משפחה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א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ל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81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לאמריק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922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ן  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בא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לישרא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859040"/>
            <a:ext cx="61722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9:47:34Z</dcterms:created>
  <dc:creator>Preferred Customer</dc:creator>
  <dc:description/>
  <dc:language>en-US</dc:language>
  <cp:lastModifiedBy>aschlezinger</cp:lastModifiedBy>
  <dcterms:modified xsi:type="dcterms:W3CDTF">2010-11-30T21:23:35Z</dcterms:modified>
  <cp:revision>4</cp:revision>
  <dc:subject/>
  <dc:title>Unit 6  power point</dc:title>
</cp:coreProperties>
</file>